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wmf" ContentType="image/x-wmf"/>
  <Override PartName="/ppt/media/image11.jpeg" ContentType="image/jpeg"/>
  <Override PartName="/ppt/media/image1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380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93DAB-0EFB-4484-B7DB-9CE4299679F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74320-A92F-4C0A-89D6-D642C4BCBF9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9048B-204F-46B2-835F-85E254C3E56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21B30-EC2A-4C89-8985-7B81EA5DE18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F206-D5FA-4A64-9F17-34D08F2BE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48FA-E67D-48B8-ABCA-CCBECC963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D819-4822-4DA4-A0CF-B8E512DD2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94BF-7D57-4932-A137-21F9F56FF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A99E-77D2-4807-B11D-C70EBCD0E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5686-45AF-4D87-B51F-13D55B2DB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10F1-3955-4A57-B8BC-4E4B27AD0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B7BF-DDDD-4496-8D44-979F59567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84A4-DF6A-4659-A15A-9FE3C2578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6163-778B-4F47-A57A-0081A9A4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2A8E-E7A3-40FA-88A2-AA91F74C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E5F0-496A-4DBA-A59E-33D53049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99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F2DC6-D20F-4521-A4AE-3A497AC76B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99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bes fona"/>
          <p:cNvPicPr/>
          <p:nvPr/>
        </p:nvPicPr>
        <p:blipFill>
          <a:blip r:embed="rId1"/>
          <a:stretch/>
        </p:blipFill>
        <p:spPr>
          <a:xfrm>
            <a:off x="3124080" y="608040"/>
            <a:ext cx="2895840" cy="18842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0" y="299736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ИНФОРМ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 ВОЗМОЖНОСТИ ПОЛУЧЕНИЯ ВЫСШЕГО ОБРАЗОВАН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 ВОЕННО-УЧЕБНЫХ ЗАВЕДЕНИЯ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99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2"/>
          <p:cNvSpPr/>
          <p:nvPr/>
        </p:nvSpPr>
        <p:spPr>
          <a:xfrm>
            <a:off x="141120" y="1052640"/>
            <a:ext cx="8929800" cy="49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 10 января по 25 март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108000" algn="just">
              <a:lnSpc>
                <a:spcPct val="115000"/>
              </a:lnSpc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брать все документы для формирования личного дел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ндидата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казанные в выданном перечне, и сдать их в отдел ВКСО (по месту жительства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108000" algn="just">
              <a:lnSpc>
                <a:spcPct val="115000"/>
              </a:lnSpc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точнить сроки и порядок прохождения областной военно-врачебной комисс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отделе ВКСО (по месту жительства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108000" algn="just">
              <a:lnSpc>
                <a:spcPct val="115000"/>
              </a:lnSpc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должить свою личную подготовк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поступления в военно-учебное заведени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 30 марта по 20 ма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108000" algn="just">
              <a:lnSpc>
                <a:spcPct val="115000"/>
              </a:lnSpc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йти медицинское обследова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областной военно-врачебной комисси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108000" algn="just">
              <a:lnSpc>
                <a:spcPct val="115000"/>
              </a:lnSpc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вершить сбор документ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формирования личного дела кандидат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108000" algn="just">
              <a:lnSpc>
                <a:spcPct val="115000"/>
              </a:lnSpc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нтролировать отправку личного дел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военно-учебное заведен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Группа 2"/>
          <p:cNvGrpSpPr/>
          <p:nvPr/>
        </p:nvGrpSpPr>
        <p:grpSpPr>
          <a:xfrm>
            <a:off x="0" y="44280"/>
            <a:ext cx="9144000" cy="863280"/>
            <a:chOff x="0" y="44280"/>
            <a:chExt cx="9144000" cy="863280"/>
          </a:xfrm>
        </p:grpSpPr>
        <p:sp>
          <p:nvSpPr>
            <p:cNvPr id="106" name="Line 4"/>
            <p:cNvSpPr/>
            <p:nvPr/>
          </p:nvSpPr>
          <p:spPr>
            <a:xfrm flipV="1">
              <a:off x="0" y="885600"/>
              <a:ext cx="9144000" cy="21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7" name="Picture 5" descr="bes fona"/>
            <p:cNvPicPr/>
            <p:nvPr/>
          </p:nvPicPr>
          <p:blipFill>
            <a:blip r:embed="rId1"/>
            <a:stretch/>
          </p:blipFill>
          <p:spPr>
            <a:xfrm>
              <a:off x="8070840" y="120240"/>
              <a:ext cx="996120" cy="64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6" descr="Эмблема облегч"/>
            <p:cNvPicPr/>
            <p:nvPr/>
          </p:nvPicPr>
          <p:blipFill>
            <a:blip r:embed="rId2"/>
            <a:stretch/>
          </p:blipFill>
          <p:spPr>
            <a:xfrm>
              <a:off x="35280" y="44280"/>
              <a:ext cx="689760" cy="76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" name="Прямоугольник 6"/>
          <p:cNvSpPr/>
          <p:nvPr/>
        </p:nvSpPr>
        <p:spPr>
          <a:xfrm>
            <a:off x="376200" y="189000"/>
            <a:ext cx="81932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И ШАГИ В ДОСТОЙНОЕ БУДУЩЕ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8534520" y="640080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99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1"/>
          <p:cNvSpPr/>
          <p:nvPr/>
        </p:nvSpPr>
        <p:spPr>
          <a:xfrm>
            <a:off x="0" y="62064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Прямоугольник 2"/>
          <p:cNvSpPr/>
          <p:nvPr/>
        </p:nvSpPr>
        <p:spPr>
          <a:xfrm>
            <a:off x="250920" y="1082520"/>
            <a:ext cx="8713800" cy="49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 21 мая по 1 июл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108000" algn="just">
              <a:lnSpc>
                <a:spcPct val="115000"/>
              </a:lnSpc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кончить свою личную подготовк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поступления в военно-учебное заведени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108000" algn="just">
              <a:lnSpc>
                <a:spcPct val="115000"/>
              </a:lnSpc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108000" algn="just">
              <a:lnSpc>
                <a:spcPct val="115000"/>
              </a:lnSpc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сле получения из военно-учебного заведения вызов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быть в отдел ВКСО (по месту жительства) и получить воинские перевозочные документы для БЕСПЛАТНОГО проезда в ВУЗ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 1 по-10 июл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огласно полученного вызова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быть и ПОСТУПИТЬ в ВУ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Группа 3"/>
          <p:cNvGrpSpPr/>
          <p:nvPr/>
        </p:nvGrpSpPr>
        <p:grpSpPr>
          <a:xfrm>
            <a:off x="0" y="44280"/>
            <a:ext cx="9144000" cy="863280"/>
            <a:chOff x="0" y="44280"/>
            <a:chExt cx="9144000" cy="863280"/>
          </a:xfrm>
        </p:grpSpPr>
        <p:sp>
          <p:nvSpPr>
            <p:cNvPr id="114" name="Line 4"/>
            <p:cNvSpPr/>
            <p:nvPr/>
          </p:nvSpPr>
          <p:spPr>
            <a:xfrm flipV="1">
              <a:off x="0" y="885600"/>
              <a:ext cx="9144000" cy="21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5" name="Picture 5" descr="bes fona"/>
            <p:cNvPicPr/>
            <p:nvPr/>
          </p:nvPicPr>
          <p:blipFill>
            <a:blip r:embed="rId1"/>
            <a:stretch/>
          </p:blipFill>
          <p:spPr>
            <a:xfrm>
              <a:off x="8070840" y="120240"/>
              <a:ext cx="996120" cy="64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6" descr="Эмблема облегч"/>
            <p:cNvPicPr/>
            <p:nvPr/>
          </p:nvPicPr>
          <p:blipFill>
            <a:blip r:embed="rId2"/>
            <a:stretch/>
          </p:blipFill>
          <p:spPr>
            <a:xfrm>
              <a:off x="35280" y="44280"/>
              <a:ext cx="689760" cy="76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Прямоугольник 7"/>
          <p:cNvSpPr/>
          <p:nvPr/>
        </p:nvSpPr>
        <p:spPr>
          <a:xfrm>
            <a:off x="376200" y="189000"/>
            <a:ext cx="81932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И ШАГИ В ДОСТОЙНОЕ БУДУЩЕ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8534520" y="640080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99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108000" y="907920"/>
          <a:ext cx="9001080" cy="5940360"/>
        </p:xfrm>
        <a:graphic>
          <a:graphicData uri="http://schemas.openxmlformats.org/drawingml/2006/table">
            <a:tbl>
              <a:tblPr/>
              <a:tblGrid>
                <a:gridCol w="9001080"/>
              </a:tblGrid>
              <a:tr h="27792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ЕВОЙСКОВЫЕ ВУ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5760" rIns="5760" tIns="576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УНЦ СВ Общевойсковая академия ВС РФ (г.Москва) Военный институт (общевойсково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760" rIns="5760" tIns="576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УНЦ СВ Общевойсковая академия ВС РФ(филиал г.Новосибирс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760" rIns="5760" tIns="576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УНЦ СВ Общевойсковая академия ВС РФ(филиал г.Благовещенс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760" rIns="5760" tIns="576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УНЦ СВ Общевойсковая академия ВС РФ(филиал г.Каза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ЕННО-ВОЗДУШНЫЕ СИ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760" rIns="5760" tIns="576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УНЦ ВВС Военно-воздушная академия  (г.Воронеж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760" rIns="5760" tIns="576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УНЦ ВВС Военно-воздушная академия(филиал г.Краснода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760" rIns="5760" tIns="576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УНЦ ВВС Военно-воздушная академия (филиал г.Челябинс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760" rIns="5760" tIns="576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УНЦ ВВС Военно-воздушная академия (филиал г.Сызра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ЕННО-МОРСКОЙ ФЛО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760" rIns="5760" tIns="576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УНЦ ВМФ Военно-морская академия (г. С.-Петербург) военный институт (военно-морско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760" rIns="5760" tIns="576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УНЦ ВМФ Военно-морская академия (г. С.-Петербург) военный институт (военно-морской политехнически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760" rIns="5760" tIns="576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УНЦ ВМФ Военно-морская академия (филиал г.Калининград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760" rIns="5760" tIns="576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УНЦ ВМФ Военно-морская академия (филиал г.Владивосто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5760" rIns="5760" tIns="576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рноморское высшее военно-морское училище (г.Севастопол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КЕТНЫЕ ВОЙСКА СТРАТЕГИЧЕСКОГО НАЗНА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760" rIns="5760" tIns="576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енная академия РВСН (г.Москв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760" rIns="5760" tIns="576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енная академия РВСН (филиал г.Серпухов Московская обл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ЕННО-КОСМИЧЕСКАЯ ОБО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760" rIns="5760" tIns="576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енно-космическая академия (г. Санкт-Петербург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760" rIns="5760" tIns="576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енно-космическая академия (филиал г. Твер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760" rIns="5760" tIns="576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енно-космическая академия (филиал г. Ярославл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0" name="Группа 3"/>
          <p:cNvGrpSpPr/>
          <p:nvPr/>
        </p:nvGrpSpPr>
        <p:grpSpPr>
          <a:xfrm>
            <a:off x="0" y="44280"/>
            <a:ext cx="9144000" cy="863280"/>
            <a:chOff x="0" y="44280"/>
            <a:chExt cx="9144000" cy="863280"/>
          </a:xfrm>
        </p:grpSpPr>
        <p:sp>
          <p:nvSpPr>
            <p:cNvPr id="121" name="Line 4"/>
            <p:cNvSpPr/>
            <p:nvPr/>
          </p:nvSpPr>
          <p:spPr>
            <a:xfrm flipV="1">
              <a:off x="0" y="885600"/>
              <a:ext cx="9144000" cy="21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2" name="Picture 5" descr="bes fona"/>
            <p:cNvPicPr/>
            <p:nvPr/>
          </p:nvPicPr>
          <p:blipFill>
            <a:blip r:embed="rId1"/>
            <a:stretch/>
          </p:blipFill>
          <p:spPr>
            <a:xfrm>
              <a:off x="8070840" y="120240"/>
              <a:ext cx="996120" cy="64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6" descr="Эмблема облегч"/>
            <p:cNvPicPr/>
            <p:nvPr/>
          </p:nvPicPr>
          <p:blipFill>
            <a:blip r:embed="rId2"/>
            <a:stretch/>
          </p:blipFill>
          <p:spPr>
            <a:xfrm>
              <a:off x="35280" y="44280"/>
              <a:ext cx="689760" cy="76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4" name="Прямоугольник 7"/>
          <p:cNvSpPr/>
          <p:nvPr/>
        </p:nvSpPr>
        <p:spPr>
          <a:xfrm>
            <a:off x="376200" y="189000"/>
            <a:ext cx="81932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ЕНЬ ВОЕННО-УЧЕБНЫХ ЗАВЕДЕНИ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99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108000" y="260280"/>
          <a:ext cx="8939160" cy="6429240"/>
        </p:xfrm>
        <a:graphic>
          <a:graphicData uri="http://schemas.openxmlformats.org/drawingml/2006/table">
            <a:tbl>
              <a:tblPr/>
              <a:tblGrid>
                <a:gridCol w="8939160"/>
              </a:tblGrid>
              <a:tr h="23832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ЙСКА СВЯЗ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5040" rIns="5040" tIns="504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енная академия связи (г. С.-Петербург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5040" rIns="5040" tIns="504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енная академия связи (филиал г.Краснода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5040" rIns="5040" tIns="504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реповецкое ВВИУ радиоэлектроники (филиал г.Череповец Вологодской обл.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ТЕРИАЛЬНО-ТЕХНИЧЕСКОЕ ОБЕСПЕ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5040" rIns="5040" tIns="504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енная академия МТО (г. С-Петербург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5040" rIns="5040" tIns="504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енная академия МТО (г. С-Петербург) военный институт (ж/дорожных войск и военных сообщений)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5040" rIns="5040" tIns="504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енная академия МТО (филиал г.С.-Петербург), военный институт (инженерно-технически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5040" rIns="5040" tIns="504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енная академия МТО (филиал г. Вольск, Саратовская обл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5040" rIns="5040" tIns="504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енная академия МТО (филиал г. Пенз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5040" rIns="5040" tIns="504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енная академия МТО (филиал г.Омс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ДЕЛЬНЫЕ РОДА ВОЙС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5040" rIns="5040" tIns="504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язанское высшее воздушно-десантное командное училище (военный институ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5040" rIns="5040" tIns="504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юменское высшее военно-инженерное командное училище (военный институ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5040" rIns="5040" tIns="504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енная академия войск радиационной, химической и биологической защиты и инженерных войск (г.Кострома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5040" rIns="5040" tIns="504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ихайловская военная артиллерийская академия (г.С-Петербург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5040" rIns="5040" tIns="504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енная академия противовоздушной обороны (филиал г. Смоленс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5040" rIns="5040" tIns="504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енный университет г. Москв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5040" rIns="5040" tIns="504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енно-технический университет (г. Балаших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5040" rIns="5040" tIns="504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енно-медицинская академия (г. С.-Петербург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5040" rIns="5040" tIns="504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енно-медицинская академия (г. С.-Петербург), Военный институт (физической культуры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УЗЫ МВД, МЧ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нкт-Петербургский военный институт ВВ МВД России (г. Санкт-Петербург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ратовский военный институт ВВ МВД России (г. Саратов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мский военный институт ВВ МВД России (г. Перм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восибирский военный институт ВВ МВД России (г. Новосибирс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кадемия гражданской защиты МЧС (г. Москв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99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250920" y="204840"/>
          <a:ext cx="8713800" cy="639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04840"/>
                    <a:ext cx="8713800" cy="639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99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250920" y="209520"/>
          <a:ext cx="8642160" cy="643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09520"/>
                    <a:ext cx="8642160" cy="643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99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643280" y="260280"/>
            <a:ext cx="4321440" cy="3063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643280" y="3500280"/>
            <a:ext cx="4330800" cy="307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179280" y="260280"/>
            <a:ext cx="4311720" cy="3057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179280" y="3500280"/>
            <a:ext cx="4338720" cy="3076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99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16080" y="317520"/>
            <a:ext cx="4184640" cy="296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646520" y="303120"/>
            <a:ext cx="4173480" cy="295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04920" y="3500280"/>
            <a:ext cx="4201920" cy="2979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4643280" y="3508200"/>
            <a:ext cx="4200840" cy="2978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99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70"/>
          <p:cNvSpPr/>
          <p:nvPr/>
        </p:nvSpPr>
        <p:spPr>
          <a:xfrm>
            <a:off x="395280" y="981000"/>
            <a:ext cx="8424720" cy="56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indent="447840" algn="just">
              <a:lnSpc>
                <a:spcPct val="100000"/>
              </a:lnSpc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для    обучения   курсантами   по   программам  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полной военно-специальной         подготовкой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 рассматриваются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граждане   Российской   Федерации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,   имеющие   документы государственного образца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о среднем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(полном) общем или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среднем профессиональном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образовании или документ государственного образца о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начальном профессиональном образовании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300" spc="-1" strike="noStrike" u="sng">
                <a:solidFill>
                  <a:srgbClr val="000000"/>
                </a:solidFill>
                <a:uFillTx/>
                <a:latin typeface="Times New Roman"/>
              </a:rPr>
              <a:t>если в нем есть запись о получении среднего (полного) общего образования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indent="447840" algn="just">
              <a:lnSpc>
                <a:spcPct val="100000"/>
              </a:lnSpc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для обучения курсантами по программам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со средней военно-специальной подготовкой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рассматриваются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граждане Российской Федерации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, имеющие документы государственного образца о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среднем (полном) общем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образовании или документ государственного образца о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начальном профессиональном образовании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300" spc="-1" strike="noStrike" u="sng">
                <a:solidFill>
                  <a:srgbClr val="000000"/>
                </a:solidFill>
                <a:uFillTx/>
                <a:latin typeface="Times New Roman"/>
              </a:rPr>
              <a:t>если в нем есть запись о получении среднего (полного) общего образования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1476360" y="204120"/>
            <a:ext cx="630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ТРЕБОВАНИЯ  К  КАНДИДАТА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Группа 1"/>
          <p:cNvGrpSpPr/>
          <p:nvPr/>
        </p:nvGrpSpPr>
        <p:grpSpPr>
          <a:xfrm>
            <a:off x="0" y="44280"/>
            <a:ext cx="9144000" cy="863280"/>
            <a:chOff x="0" y="44280"/>
            <a:chExt cx="9144000" cy="863280"/>
          </a:xfrm>
        </p:grpSpPr>
        <p:sp>
          <p:nvSpPr>
            <p:cNvPr id="57" name="Line 4"/>
            <p:cNvSpPr/>
            <p:nvPr/>
          </p:nvSpPr>
          <p:spPr>
            <a:xfrm flipV="1">
              <a:off x="0" y="885600"/>
              <a:ext cx="9144000" cy="21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" name="Picture 5" descr="bes fona"/>
            <p:cNvPicPr/>
            <p:nvPr/>
          </p:nvPicPr>
          <p:blipFill>
            <a:blip r:embed="rId1"/>
            <a:stretch/>
          </p:blipFill>
          <p:spPr>
            <a:xfrm>
              <a:off x="8070840" y="120240"/>
              <a:ext cx="996120" cy="64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6" descr="Эмблема облегч"/>
            <p:cNvPicPr/>
            <p:nvPr/>
          </p:nvPicPr>
          <p:blipFill>
            <a:blip r:embed="rId2"/>
            <a:stretch/>
          </p:blipFill>
          <p:spPr>
            <a:xfrm>
              <a:off x="35280" y="44280"/>
              <a:ext cx="689760" cy="76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Text Box 11"/>
          <p:cNvSpPr/>
          <p:nvPr/>
        </p:nvSpPr>
        <p:spPr>
          <a:xfrm>
            <a:off x="8534520" y="640080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99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70"/>
          <p:cNvSpPr/>
          <p:nvPr/>
        </p:nvSpPr>
        <p:spPr>
          <a:xfrm>
            <a:off x="324000" y="1052640"/>
            <a:ext cx="842472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граждане, не проходившие военную службу </a:t>
            </a:r>
            <a:r>
              <a:rPr b="0" lang="ru-RU" sz="25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в возрасте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от 16 до 22 лет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граждане, прошедшие военную службу, и военнослужащие, проходящие военную службу по призыву, </a:t>
            </a:r>
            <a:r>
              <a:rPr b="0" lang="ru-RU" sz="25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до достижения ими возраста 24 лет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военнослужащие, проходящие военную службу по контракту поступающие в академию для обучения по программам с полной военно-специальной подготовкой, </a:t>
            </a:r>
            <a:r>
              <a:rPr b="0" lang="ru-RU" sz="25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до достижения ими возраста 25 лет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, а поступающие в академию для обучения по программам со средней военно-специальной подготовкой, –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до достижения ими возраста 30 лет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Возраст определяется по состоянию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на 1 августа года приема в военно-учебное заведение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1476360" y="204120"/>
            <a:ext cx="630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ЗРАСТНЫЕ КАТЕГОР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Группа 3"/>
          <p:cNvGrpSpPr/>
          <p:nvPr/>
        </p:nvGrpSpPr>
        <p:grpSpPr>
          <a:xfrm>
            <a:off x="0" y="44280"/>
            <a:ext cx="9144000" cy="863280"/>
            <a:chOff x="0" y="44280"/>
            <a:chExt cx="9144000" cy="863280"/>
          </a:xfrm>
        </p:grpSpPr>
        <p:sp>
          <p:nvSpPr>
            <p:cNvPr id="64" name="Line 4"/>
            <p:cNvSpPr/>
            <p:nvPr/>
          </p:nvSpPr>
          <p:spPr>
            <a:xfrm flipV="1">
              <a:off x="0" y="885600"/>
              <a:ext cx="9144000" cy="21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5" name="Picture 5" descr="bes fona"/>
            <p:cNvPicPr/>
            <p:nvPr/>
          </p:nvPicPr>
          <p:blipFill>
            <a:blip r:embed="rId1"/>
            <a:stretch/>
          </p:blipFill>
          <p:spPr>
            <a:xfrm>
              <a:off x="8070840" y="120240"/>
              <a:ext cx="996120" cy="64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6" descr="Эмблема облегч"/>
            <p:cNvPicPr/>
            <p:nvPr/>
          </p:nvPicPr>
          <p:blipFill>
            <a:blip r:embed="rId2"/>
            <a:stretch/>
          </p:blipFill>
          <p:spPr>
            <a:xfrm>
              <a:off x="35280" y="44280"/>
              <a:ext cx="689760" cy="76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" name="Text Box 11"/>
          <p:cNvSpPr/>
          <p:nvPr/>
        </p:nvSpPr>
        <p:spPr>
          <a:xfrm>
            <a:off x="8534520" y="640080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99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70"/>
          <p:cNvSpPr/>
          <p:nvPr/>
        </p:nvSpPr>
        <p:spPr>
          <a:xfrm>
            <a:off x="395280" y="987480"/>
            <a:ext cx="8424720" cy="56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Граждане изъявившие желание поступить в академию, подают заявления в отдел военного комиссариата субъекта Российской Федерации (муниципальный) по месту жительства до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1 апреля года приема в военно-учебное заведение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 u="sng">
                <a:solidFill>
                  <a:srgbClr val="ff0000"/>
                </a:solidFill>
                <a:uFillTx/>
                <a:latin typeface="Times New Roman"/>
              </a:rPr>
              <a:t>Документы (личные дела), военные комиссары субъектов Российской Федерации направляют в академию до 20 мая года приема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Приемная комиссия учебного заведения на основании рассмотрения поступивших документов кандидатов определяет соответствие отобранных кандидатов требованиям и принимает решение об их допуске к профессиональному отбору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Решение доводится до военных комиссариатов субъектов Российской Федерации (муниципальных) по месту жительства кандидатов и лично кандидатам </a:t>
            </a:r>
            <a:r>
              <a:rPr b="1" lang="ru-RU" sz="2300" spc="-1" strike="noStrike" u="sng">
                <a:solidFill>
                  <a:srgbClr val="ff0000"/>
                </a:solidFill>
                <a:uFillTx/>
                <a:latin typeface="Times New Roman"/>
              </a:rPr>
              <a:t>до 20 июня года приема в академию</a:t>
            </a:r>
            <a:r>
              <a:rPr b="1" lang="ru-RU" sz="23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с указанием времени и места проведения профессио­нального отбора или причин отказа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1476360" y="189720"/>
            <a:ext cx="630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ЕДВАРИТЕЛЬНЫЙ ОТБО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Группа 3"/>
          <p:cNvGrpSpPr/>
          <p:nvPr/>
        </p:nvGrpSpPr>
        <p:grpSpPr>
          <a:xfrm>
            <a:off x="0" y="44280"/>
            <a:ext cx="9144000" cy="863280"/>
            <a:chOff x="0" y="44280"/>
            <a:chExt cx="9144000" cy="863280"/>
          </a:xfrm>
        </p:grpSpPr>
        <p:sp>
          <p:nvSpPr>
            <p:cNvPr id="71" name="Line 4"/>
            <p:cNvSpPr/>
            <p:nvPr/>
          </p:nvSpPr>
          <p:spPr>
            <a:xfrm flipV="1">
              <a:off x="0" y="885600"/>
              <a:ext cx="9144000" cy="21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" name="Picture 5" descr="bes fona"/>
            <p:cNvPicPr/>
            <p:nvPr/>
          </p:nvPicPr>
          <p:blipFill>
            <a:blip r:embed="rId1"/>
            <a:stretch/>
          </p:blipFill>
          <p:spPr>
            <a:xfrm>
              <a:off x="8070840" y="120240"/>
              <a:ext cx="996120" cy="64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Picture 6" descr="Эмблема облегч"/>
            <p:cNvPicPr/>
            <p:nvPr/>
          </p:nvPicPr>
          <p:blipFill>
            <a:blip r:embed="rId2"/>
            <a:stretch/>
          </p:blipFill>
          <p:spPr>
            <a:xfrm>
              <a:off x="35280" y="44280"/>
              <a:ext cx="689760" cy="76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" name="Text Box 11"/>
          <p:cNvSpPr/>
          <p:nvPr/>
        </p:nvSpPr>
        <p:spPr>
          <a:xfrm>
            <a:off x="8534520" y="640080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99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49"/>
          <p:cNvSpPr/>
          <p:nvPr/>
        </p:nvSpPr>
        <p:spPr>
          <a:xfrm>
            <a:off x="179280" y="907920"/>
            <a:ext cx="87138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77840"/>
                <a:tab algn="l" pos="72396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жемесячная надбавка за выслугу лет к окладу денежного содержания в следующих размерах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77840"/>
                <a:tab algn="l" pos="72396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0 %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 при выслуге от 2 до 5 лет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77840"/>
                <a:tab algn="l" pos="72396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5 %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 при выслуге от 5 до 10 лет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77840"/>
                <a:tab algn="l" pos="72396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0 %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 при выслуге от 10 до 15 лет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77840"/>
                <a:tab algn="l" pos="72396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жемесячная надбавка за работу со сведениями, составляющими государственную тайну (имеющими степень секретности «секретно»)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0 % оклада по воинской должност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77840"/>
                <a:tab algn="l" pos="72396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мия за добросовестное и эффективное исполнение должностных обязанностей, в зависимости от результатов прошедшей экзаменационной сессии или вступительных экзаменов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77840"/>
                <a:tab algn="l" pos="72396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меющим только отличные оценки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о 25 % оклада денежного содержания в месяц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77840"/>
                <a:tab algn="l" pos="72396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меющим только хорошие и отличные оценки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о 15 % оклада денежного содержания в месяц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77840"/>
                <a:tab algn="l" pos="72396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меющим удовлетворительные оценки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о 5 % оклада денежного содержания в месяц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77840"/>
                <a:tab algn="l" pos="72396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териальная помощь (1 раз в год) в размер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клада денежного содержа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826920" y="1890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</a:rPr>
              <a:t>УСЛОВИЯ  ОБУЧЕНИЯ  КУРСАНТ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Группа 3"/>
          <p:cNvGrpSpPr/>
          <p:nvPr/>
        </p:nvGrpSpPr>
        <p:grpSpPr>
          <a:xfrm>
            <a:off x="0" y="44280"/>
            <a:ext cx="9144000" cy="863280"/>
            <a:chOff x="0" y="44280"/>
            <a:chExt cx="9144000" cy="863280"/>
          </a:xfrm>
        </p:grpSpPr>
        <p:sp>
          <p:nvSpPr>
            <p:cNvPr id="78" name="Line 4"/>
            <p:cNvSpPr/>
            <p:nvPr/>
          </p:nvSpPr>
          <p:spPr>
            <a:xfrm flipV="1">
              <a:off x="0" y="885600"/>
              <a:ext cx="9144000" cy="21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9" name="Picture 5" descr="bes fona"/>
            <p:cNvPicPr/>
            <p:nvPr/>
          </p:nvPicPr>
          <p:blipFill>
            <a:blip r:embed="rId1"/>
            <a:stretch/>
          </p:blipFill>
          <p:spPr>
            <a:xfrm>
              <a:off x="8070840" y="120240"/>
              <a:ext cx="996120" cy="64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6" descr="Эмблема облегч"/>
            <p:cNvPicPr/>
            <p:nvPr/>
          </p:nvPicPr>
          <p:blipFill>
            <a:blip r:embed="rId2"/>
            <a:stretch/>
          </p:blipFill>
          <p:spPr>
            <a:xfrm>
              <a:off x="35280" y="44280"/>
              <a:ext cx="689760" cy="76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Text Box 11"/>
          <p:cNvSpPr/>
          <p:nvPr/>
        </p:nvSpPr>
        <p:spPr>
          <a:xfrm>
            <a:off x="8534520" y="640080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99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1"/>
          <p:cNvSpPr/>
          <p:nvPr/>
        </p:nvSpPr>
        <p:spPr>
          <a:xfrm>
            <a:off x="246240" y="1125360"/>
            <a:ext cx="8640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47840" algn="just"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есплатный проезд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дидатов в учебное заведение от места жительства (и обратно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447840" algn="just"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есплатное обучен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обязательным получением стипендии в размере 15-25 тыс. рублей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447840" algn="just"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лное государственное обеспечен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итание, проживание, вещевое обеспечение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447840" algn="just"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есплатный проезд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 месту проведения отпуска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447840" algn="just"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есплатное получе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дительского удостоверения категории «В», «С»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447840" algn="just"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зможность получения нескольких специальносте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447840" algn="just"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ступление в военно-учебные заведения происходит раньш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чем в другие вузы, что дает возможность попытаться поступить в военно-учебные заведения и одновременно подать документы на поступления в другие учебные заведения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Группа 2"/>
          <p:cNvGrpSpPr/>
          <p:nvPr/>
        </p:nvGrpSpPr>
        <p:grpSpPr>
          <a:xfrm>
            <a:off x="0" y="44280"/>
            <a:ext cx="9144000" cy="863280"/>
            <a:chOff x="0" y="44280"/>
            <a:chExt cx="9144000" cy="863280"/>
          </a:xfrm>
        </p:grpSpPr>
        <p:sp>
          <p:nvSpPr>
            <p:cNvPr id="84" name="Line 4"/>
            <p:cNvSpPr/>
            <p:nvPr/>
          </p:nvSpPr>
          <p:spPr>
            <a:xfrm flipV="1">
              <a:off x="0" y="885600"/>
              <a:ext cx="9144000" cy="21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5" name="Picture 5" descr="bes fona"/>
            <p:cNvPicPr/>
            <p:nvPr/>
          </p:nvPicPr>
          <p:blipFill>
            <a:blip r:embed="rId1"/>
            <a:stretch/>
          </p:blipFill>
          <p:spPr>
            <a:xfrm>
              <a:off x="8070840" y="120240"/>
              <a:ext cx="996120" cy="64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6" descr="Эмблема облегч"/>
            <p:cNvPicPr/>
            <p:nvPr/>
          </p:nvPicPr>
          <p:blipFill>
            <a:blip r:embed="rId2"/>
            <a:stretch/>
          </p:blipFill>
          <p:spPr>
            <a:xfrm>
              <a:off x="35280" y="44280"/>
              <a:ext cx="689760" cy="76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Прямоугольник 6"/>
          <p:cNvSpPr/>
          <p:nvPr/>
        </p:nvSpPr>
        <p:spPr>
          <a:xfrm>
            <a:off x="250920" y="115920"/>
            <a:ext cx="815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СНОВНЫЕ ПРЕИМУЩЕСТВА ВОЕННОЙ СЛУЖБ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О ВРЕМЯ УЧЕБЫ В ВОЕННО-УЧЕБНОМ ЗАВЕДЕНИ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8534520" y="640080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99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"/>
          <p:cNvSpPr/>
          <p:nvPr/>
        </p:nvSpPr>
        <p:spPr>
          <a:xfrm>
            <a:off x="263520" y="1123920"/>
            <a:ext cx="8569440" cy="53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47840" algn="just"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иплом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 получении высшего (средне-профессионального) образования общегосударственного образца;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447840" algn="just"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арантированное трудоустройство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окончании учебного заведения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447840" algn="just"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редняя заработная плата лейтенанта от 45 тыс. руб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447840" algn="just"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личие надбавок к зарплате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за занятия спортом за работу со сведениями, составляющими государственную тайну за особые условия службы и другие (до 180% от должностного оклада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447840" algn="just"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ост размера денежного содержания в зависимости от выслуги лет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447840" algn="just"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есплатный проезд к месту проведения отпуска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обратно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447840" algn="just"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служебным жильем по месту службы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447840" algn="just"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есплатное обеспечение жильем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еннослужащего и членов его семьи при увольнении в запас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447840" algn="just"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ыход на пенсию в 50 лет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25000-40000 руб.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Группа 2"/>
          <p:cNvGrpSpPr/>
          <p:nvPr/>
        </p:nvGrpSpPr>
        <p:grpSpPr>
          <a:xfrm>
            <a:off x="0" y="44280"/>
            <a:ext cx="9144000" cy="863280"/>
            <a:chOff x="0" y="44280"/>
            <a:chExt cx="9144000" cy="863280"/>
          </a:xfrm>
        </p:grpSpPr>
        <p:sp>
          <p:nvSpPr>
            <p:cNvPr id="91" name="Line 4"/>
            <p:cNvSpPr/>
            <p:nvPr/>
          </p:nvSpPr>
          <p:spPr>
            <a:xfrm flipV="1">
              <a:off x="0" y="885600"/>
              <a:ext cx="9144000" cy="21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" name="Picture 5" descr="bes fona"/>
            <p:cNvPicPr/>
            <p:nvPr/>
          </p:nvPicPr>
          <p:blipFill>
            <a:blip r:embed="rId1"/>
            <a:stretch/>
          </p:blipFill>
          <p:spPr>
            <a:xfrm>
              <a:off x="8070840" y="120240"/>
              <a:ext cx="996120" cy="64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6" descr="Эмблема облегч"/>
            <p:cNvPicPr/>
            <p:nvPr/>
          </p:nvPicPr>
          <p:blipFill>
            <a:blip r:embed="rId2"/>
            <a:stretch/>
          </p:blipFill>
          <p:spPr>
            <a:xfrm>
              <a:off x="35280" y="44280"/>
              <a:ext cx="689760" cy="76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Прямоугольник 6"/>
          <p:cNvSpPr/>
          <p:nvPr/>
        </p:nvSpPr>
        <p:spPr>
          <a:xfrm>
            <a:off x="380880" y="44280"/>
            <a:ext cx="818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СЛЕ ОКОНЧА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ОЕННО-УЧЕБНОГО ЗАВЕДЕ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8534520" y="640080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99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"/>
          <p:cNvSpPr/>
          <p:nvPr/>
        </p:nvSpPr>
        <p:spPr>
          <a:xfrm>
            <a:off x="0" y="-45864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Прямоугольник 2"/>
          <p:cNvSpPr/>
          <p:nvPr/>
        </p:nvSpPr>
        <p:spPr>
          <a:xfrm>
            <a:off x="241200" y="985680"/>
            <a:ext cx="8858520" cy="54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 1 ноября по 25 декабр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йти в отдел Военного комиссариата Свердловской области (далее ВКСО) (по месту жительства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УТОЧНИТЬ перечень военно-учебных заведений (ВУЗ), порядок поступления в них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ыбрать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для поступления 3-4 ВУЗ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точнить список общеобразовательных предметов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которым будут необходимы результаты ЕГЭ в выбранный ВУЗ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отделе ВКСО получить перечень документ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еобходимых для формирования личного дела кандидат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отделе ВКСО заполнить анкет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ля оформления допуска к сведениям, составляющих государственную тайну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Группа 3"/>
          <p:cNvGrpSpPr/>
          <p:nvPr/>
        </p:nvGrpSpPr>
        <p:grpSpPr>
          <a:xfrm>
            <a:off x="0" y="44280"/>
            <a:ext cx="9144000" cy="863280"/>
            <a:chOff x="0" y="44280"/>
            <a:chExt cx="9144000" cy="863280"/>
          </a:xfrm>
        </p:grpSpPr>
        <p:sp>
          <p:nvSpPr>
            <p:cNvPr id="99" name="Line 4"/>
            <p:cNvSpPr/>
            <p:nvPr/>
          </p:nvSpPr>
          <p:spPr>
            <a:xfrm flipV="1">
              <a:off x="0" y="885600"/>
              <a:ext cx="9144000" cy="21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Picture 5" descr="bes fona"/>
            <p:cNvPicPr/>
            <p:nvPr/>
          </p:nvPicPr>
          <p:blipFill>
            <a:blip r:embed="rId1"/>
            <a:stretch/>
          </p:blipFill>
          <p:spPr>
            <a:xfrm>
              <a:off x="8070840" y="120240"/>
              <a:ext cx="996120" cy="64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6" descr="Эмблема облегч"/>
            <p:cNvPicPr/>
            <p:nvPr/>
          </p:nvPicPr>
          <p:blipFill>
            <a:blip r:embed="rId2"/>
            <a:stretch/>
          </p:blipFill>
          <p:spPr>
            <a:xfrm>
              <a:off x="35280" y="44280"/>
              <a:ext cx="689760" cy="76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Прямоугольник 1"/>
          <p:cNvSpPr/>
          <p:nvPr/>
        </p:nvSpPr>
        <p:spPr>
          <a:xfrm>
            <a:off x="376200" y="189000"/>
            <a:ext cx="81932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И ШАГИ В ДОСТОЙНОЕ БУДУЩЕ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8534520" y="640080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0T06:04:52Z</dcterms:created>
  <dc:creator>Учебный отдел</dc:creator>
  <dc:description/>
  <dc:language>en-US</dc:language>
  <cp:lastModifiedBy>Artur</cp:lastModifiedBy>
  <dcterms:modified xsi:type="dcterms:W3CDTF">2016-01-13T08:23:56Z</dcterms:modified>
  <cp:revision>340</cp:revision>
  <dc:subject/>
  <dc:title>Презентация PowerPoint</dc:title>
</cp:coreProperties>
</file>